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9516-D107-43E5-B8ED-B84973183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BF40-0CE3-4194-98ED-23F6ABA1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7B01-66C2-4E88-8A1D-EF029CB1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BA8-6FDA-49AE-B1F0-54CAB2D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5D7-D904-4643-9892-0987929F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ACE-C2E1-4473-96E5-06500021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0469-ACA2-49C4-A0E9-4D081D4A0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9F9-E783-4477-BFD7-B492A6CD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014-A47D-430A-9D3D-5862C3BD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7F89-C32E-427C-BFA1-0FD1882F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28F-C3F6-4659-B301-88699357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B2FA-8B3E-42CB-B1E7-9E165824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B63F-202D-4607-9320-CFB6EE96D01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792000" y="1412640"/>
            <a:ext cx="75852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4a88"/>
                </a:solidFill>
                <a:latin typeface="Kadwa"/>
                <a:ea typeface="Kadwa"/>
              </a:rPr>
              <a:t>Réduction des intrants en apicul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a88"/>
                </a:solidFill>
                <a:latin typeface="Kadwa"/>
                <a:ea typeface="Kadwa"/>
              </a:rPr>
              <a:t>Enjeu de durabilité et d’autonomie des exploi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Le modèle ESR, un cadre méthodologiqu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pour analyser les pratiqu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1992240" y="6559560"/>
            <a:ext cx="5184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4a88"/>
                </a:solidFill>
                <a:latin typeface="Calibri"/>
                <a:ea typeface="Arial"/>
              </a:rPr>
              <a:t>Département Agricultures et Transitions – Septembre  2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STOCKAGE\Administratif\Charte Graphique 2018\Bergerie Nationale-logo vert foncé-typo grise_signature.jpg"/>
          <p:cNvPicPr/>
          <p:nvPr/>
        </p:nvPicPr>
        <p:blipFill>
          <a:blip r:embed="rId1"/>
          <a:stretch/>
        </p:blipFill>
        <p:spPr>
          <a:xfrm>
            <a:off x="7524720" y="260280"/>
            <a:ext cx="1204920" cy="954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C:\STOCKAGE\Administratif\Logos\marianne-charte.png"/>
          <p:cNvPicPr/>
          <p:nvPr/>
        </p:nvPicPr>
        <p:blipFill>
          <a:blip r:embed="rId2"/>
          <a:stretch/>
        </p:blipFill>
        <p:spPr>
          <a:xfrm>
            <a:off x="468360" y="333360"/>
            <a:ext cx="1284120" cy="71928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e 14"/>
          <p:cNvGrpSpPr/>
          <p:nvPr/>
        </p:nvGrpSpPr>
        <p:grpSpPr>
          <a:xfrm>
            <a:off x="152280" y="4437000"/>
            <a:ext cx="8864640" cy="1476360"/>
            <a:chOff x="152280" y="4437000"/>
            <a:chExt cx="8864640" cy="1476360"/>
          </a:xfrm>
        </p:grpSpPr>
        <p:pic>
          <p:nvPicPr>
            <p:cNvPr id="46" name="Picture 5" descr="C:\STOCKAGE\Photos\Activités BN\Apiculture\Rucher_Fournier\Rucher_fournier_2020©Bergerie_nationale (12)c.jpg"/>
            <p:cNvPicPr/>
            <p:nvPr/>
          </p:nvPicPr>
          <p:blipFill>
            <a:blip r:embed="rId3"/>
            <a:stretch/>
          </p:blipFill>
          <p:spPr>
            <a:xfrm>
              <a:off x="152280" y="4437000"/>
              <a:ext cx="2214360" cy="1476360"/>
            </a:xfrm>
            <a:prstGeom prst="rect">
              <a:avLst/>
            </a:prstGeom>
            <a:ln w="9360">
              <a:solidFill>
                <a:srgbClr val="004a88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pic>
          <p:nvPicPr>
            <p:cNvPr id="47" name="Picture 2" descr="C:\STOCKAGE\Photos\Apiculture_EA\Ruchers_STG\P1270837c.jpg"/>
            <p:cNvPicPr/>
            <p:nvPr/>
          </p:nvPicPr>
          <p:blipFill>
            <a:blip r:embed="rId4"/>
            <a:stretch/>
          </p:blipFill>
          <p:spPr>
            <a:xfrm>
              <a:off x="6804000" y="4437000"/>
              <a:ext cx="2212920" cy="1474920"/>
            </a:xfrm>
            <a:prstGeom prst="rect">
              <a:avLst/>
            </a:prstGeom>
            <a:ln w="9360">
              <a:solidFill>
                <a:srgbClr val="004a88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pic>
          <p:nvPicPr>
            <p:cNvPr id="48" name="Picture 4" descr="Apiculture: Traitement hivernal des ruches d'abeilles à l ..."/>
            <p:cNvPicPr/>
            <p:nvPr/>
          </p:nvPicPr>
          <p:blipFill>
            <a:blip r:embed="rId5">
              <a:lum bright="10000"/>
            </a:blip>
            <a:srcRect l="8230" t="0" r="6759" b="0"/>
            <a:stretch/>
          </p:blipFill>
          <p:spPr>
            <a:xfrm>
              <a:off x="4572000" y="4437000"/>
              <a:ext cx="2232000" cy="1474920"/>
            </a:xfrm>
            <a:prstGeom prst="rect">
              <a:avLst/>
            </a:prstGeom>
            <a:ln w="9360">
              <a:solidFill>
                <a:srgbClr val="004a88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  <p:pic>
          <p:nvPicPr>
            <p:cNvPr id="49" name="Picture 6" descr="Candi ou sirop ? Que choisir ? - Blog apicole"/>
            <p:cNvPicPr/>
            <p:nvPr/>
          </p:nvPicPr>
          <p:blipFill>
            <a:blip r:embed="rId6"/>
            <a:srcRect l="0" t="0" r="10534" b="19137"/>
            <a:stretch/>
          </p:blipFill>
          <p:spPr>
            <a:xfrm>
              <a:off x="2339640" y="4437000"/>
              <a:ext cx="2232000" cy="1474920"/>
            </a:xfrm>
            <a:prstGeom prst="rect">
              <a:avLst/>
            </a:prstGeom>
            <a:ln w="9360">
              <a:solidFill>
                <a:srgbClr val="004a88"/>
              </a:solidFill>
              <a:miter/>
            </a:ln>
            <a:effectLst>
              <a:outerShdw dist="0" dir="0" blurRad="0" rotWithShape="0">
                <a:srgbClr val="000000">
                  <a:alpha val="70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79280" y="836640"/>
          <a:ext cx="8785440" cy="5832360"/>
        </p:xfrm>
        <a:graphic>
          <a:graphicData uri="http://schemas.openxmlformats.org/drawingml/2006/table">
            <a:tbl>
              <a:tblPr/>
              <a:tblGrid>
                <a:gridCol w="2880000"/>
                <a:gridCol w="2665080"/>
                <a:gridCol w="3240360"/>
              </a:tblGrid>
              <a:tr h="338040">
                <a:tc gridSpan="3"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Intrant :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itement anti-varro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Effi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Sub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Reconce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2000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e faire conseiller et accompagner par un GDS et un vétérin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ivi du niveau d’infestation et de l’efficacité des traitements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dapter les dates et les produits de traitements selon les niveau d’infes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Utilisation de produits avec AM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lternance des acaricides de synthè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spect des durées de trait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centrage des supports d’application sur le nid à couvain après 4 semai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ise en charge des déchets dans les filières spécialisé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tratégie de traitement à l’échelle du ruch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iblage des traitements sur les périodes hors production et hors couv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Utilisation de produits de traitement  avec AMM à base d’acide organique et de composés aromatiq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Lutte biotechnique : platea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grillagé, retrait de couv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mâle et d’ouvrière, création d’essaim artific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Blocage de ponte artific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Valorisation du couvain prélevé dans un atelier d’élevage et de production d’essai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ensation des p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hivernales par un effort d’élev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pplément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erminer la saison par des miellées favorisant le blocage de po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duction du volume des ruch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olérance de l’essaim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spect des ruptures de ponte : remérage naturel ou introduction de cellule royale, pas de reine fécond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iminution de la taille et de la densité des ruchers sur le territo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Gestion sanitaire concertée entre apiculteurs et plan de lutte collecti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Utilisation d’abeilles résis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élection et élevage d’abeilles résista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03280" y="189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2.2 Les pratiques de lutte anti-varro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79280" y="836640"/>
          <a:ext cx="8785440" cy="5408640"/>
        </p:xfrm>
        <a:graphic>
          <a:graphicData uri="http://schemas.openxmlformats.org/drawingml/2006/table">
            <a:tbl>
              <a:tblPr/>
              <a:tblGrid>
                <a:gridCol w="2880000"/>
                <a:gridCol w="2665080"/>
                <a:gridCol w="3240360"/>
              </a:tblGrid>
              <a:tr h="431640">
                <a:tc gridSpan="3"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Intrant :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Effi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Sub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Reconce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45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Vérification de l’origine et de la qualité de la cire acheté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hat de cire dépolluée par un traitement ionisa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Utilisation de demi-plaqu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Utilisation de cadres en plas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cupération de la c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’opercule de l’explo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Faire bâtir et prélever de la cire jeu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Gaufrage de plaque par un cirier ou l’apiculte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vail en bâtisse libre avec des bandes amorces sur cadre filés ou à jambage pour les cor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vail en bâtisse libre avec des bandes amorces sur cadre filés ou à jambage pour les hau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ensation des baisses de rendement par une meilleur valorisation économique du m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Être excédentaire en cire d’opercule pour vendre de la cire de qualité cosmétique et alimenta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503280" y="189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2.3 Les pratiques d’approvisionnement en c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250920" y="1179360"/>
          <a:ext cx="8713800" cy="5129280"/>
        </p:xfrm>
        <a:graphic>
          <a:graphicData uri="http://schemas.openxmlformats.org/drawingml/2006/table">
            <a:tbl>
              <a:tblPr/>
              <a:tblGrid>
                <a:gridCol w="1800000"/>
                <a:gridCol w="2278080"/>
                <a:gridCol w="2318040"/>
                <a:gridCol w="2317680"/>
              </a:tblGrid>
              <a:tr h="457200">
                <a:tc>
                  <a:txBody>
                    <a:bodyPr lIns="40680" rIns="406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Efficie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Substit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Recon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04a7b"/>
                    </a:solidFill>
                  </a:tcPr>
                </a:tc>
              </a:tr>
              <a:tr h="177480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 de nourr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atique X (atouts, contraintes et questionn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83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itement varr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atique Y (atouts, contraintes et questionn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atique Z (atouts, contraintes et questionne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03280" y="261720"/>
            <a:ext cx="835344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3. Analyse des pratiques en cours ou envisagées : atouts, contraintes et questionn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79280" y="692280"/>
          <a:ext cx="8713800" cy="5689440"/>
        </p:xfrm>
        <a:graphic>
          <a:graphicData uri="http://schemas.openxmlformats.org/drawingml/2006/table">
            <a:tbl>
              <a:tblPr/>
              <a:tblGrid>
                <a:gridCol w="1800360"/>
                <a:gridCol w="6913440"/>
              </a:tblGrid>
              <a:tr h="487080">
                <a:tc gridSpan="2"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Changements de pratiques envisagés et levier d’action à act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46c0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449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 de nourr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itement varr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872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189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4. Perspectives d’évolution du système de produ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5280" y="333360"/>
            <a:ext cx="8353440" cy="20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La démarch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Un questionnement multip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fr-FR" sz="18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Dans quelle mesure l’apiculture peut et a intérêt à limiter ses intrants pour améliorer son autonomie et sa durabilité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68360" y="3821040"/>
            <a:ext cx="81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4a88"/>
                </a:solidFill>
                <a:latin typeface="Calibri"/>
              </a:rPr>
              <a:t>Une méthodologie en 4 étapes </a:t>
            </a:r>
            <a:r>
              <a:rPr b="1" lang="fr-FR" sz="2000" spc="-1" strike="noStrike">
                <a:solidFill>
                  <a:srgbClr val="004a88"/>
                </a:solidFill>
                <a:latin typeface="Calibri"/>
              </a:rPr>
              <a:t>	</a:t>
            </a:r>
            <a:r>
              <a:rPr b="1" lang="fr-FR" sz="2000" spc="-1" strike="noStrike">
                <a:solidFill>
                  <a:srgbClr val="004a88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3"/>
          <p:cNvGrpSpPr/>
          <p:nvPr/>
        </p:nvGrpSpPr>
        <p:grpSpPr>
          <a:xfrm>
            <a:off x="277920" y="4471920"/>
            <a:ext cx="2039760" cy="2051280"/>
            <a:chOff x="277920" y="4471920"/>
            <a:chExt cx="2039760" cy="2051280"/>
          </a:xfrm>
        </p:grpSpPr>
        <p:sp>
          <p:nvSpPr>
            <p:cNvPr id="53" name="Rectangle : coins arrondis 15"/>
            <p:cNvSpPr/>
            <p:nvPr/>
          </p:nvSpPr>
          <p:spPr>
            <a:xfrm>
              <a:off x="277920" y="4471920"/>
              <a:ext cx="2039760" cy="1513080"/>
            </a:xfrm>
            <a:prstGeom prst="roundRect">
              <a:avLst>
                <a:gd name="adj" fmla="val 633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ZoneTexte 6"/>
            <p:cNvSpPr/>
            <p:nvPr/>
          </p:nvSpPr>
          <p:spPr>
            <a:xfrm>
              <a:off x="277920" y="4813200"/>
              <a:ext cx="20397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Identifier les intrants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les problématiqu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et les enjeux associé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ZoneTexte 16"/>
            <p:cNvSpPr/>
            <p:nvPr/>
          </p:nvSpPr>
          <p:spPr>
            <a:xfrm>
              <a:off x="1135080" y="6154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a88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e 4"/>
          <p:cNvGrpSpPr/>
          <p:nvPr/>
        </p:nvGrpSpPr>
        <p:grpSpPr>
          <a:xfrm>
            <a:off x="2460600" y="4471920"/>
            <a:ext cx="2040120" cy="2051280"/>
            <a:chOff x="2460600" y="4471920"/>
            <a:chExt cx="2040120" cy="2051280"/>
          </a:xfrm>
        </p:grpSpPr>
        <p:sp>
          <p:nvSpPr>
            <p:cNvPr id="57" name="Rectangle : coins arrondis 14"/>
            <p:cNvSpPr/>
            <p:nvPr/>
          </p:nvSpPr>
          <p:spPr>
            <a:xfrm>
              <a:off x="2460600" y="4471920"/>
              <a:ext cx="2040120" cy="1513080"/>
            </a:xfrm>
            <a:prstGeom prst="roundRect">
              <a:avLst>
                <a:gd name="adj" fmla="val 633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ZoneTexte 8"/>
            <p:cNvSpPr/>
            <p:nvPr/>
          </p:nvSpPr>
          <p:spPr>
            <a:xfrm>
              <a:off x="2460600" y="4689360"/>
              <a:ext cx="2040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Recenser et classer les pratiques de réduction dans la matrice ES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ZoneTexte 17"/>
            <p:cNvSpPr/>
            <p:nvPr/>
          </p:nvSpPr>
          <p:spPr>
            <a:xfrm>
              <a:off x="3317760" y="6154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a88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e 7"/>
          <p:cNvGrpSpPr/>
          <p:nvPr/>
        </p:nvGrpSpPr>
        <p:grpSpPr>
          <a:xfrm>
            <a:off x="4621320" y="4471920"/>
            <a:ext cx="2038320" cy="2051280"/>
            <a:chOff x="4621320" y="4471920"/>
            <a:chExt cx="2038320" cy="2051280"/>
          </a:xfrm>
        </p:grpSpPr>
        <p:sp>
          <p:nvSpPr>
            <p:cNvPr id="61" name="Rectangle : coins arrondis 13"/>
            <p:cNvSpPr/>
            <p:nvPr/>
          </p:nvSpPr>
          <p:spPr>
            <a:xfrm>
              <a:off x="4621320" y="4471920"/>
              <a:ext cx="2038320" cy="1513080"/>
            </a:xfrm>
            <a:prstGeom prst="roundRect">
              <a:avLst>
                <a:gd name="adj" fmla="val 633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ZoneTexte 10"/>
            <p:cNvSpPr/>
            <p:nvPr/>
          </p:nvSpPr>
          <p:spPr>
            <a:xfrm>
              <a:off x="4646520" y="4727520"/>
              <a:ext cx="19893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Evaluer les atouts et les contraintes de chacune des pratiqu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ZoneTexte 18"/>
            <p:cNvSpPr/>
            <p:nvPr/>
          </p:nvSpPr>
          <p:spPr>
            <a:xfrm>
              <a:off x="5478480" y="615492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a88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e 9"/>
          <p:cNvGrpSpPr/>
          <p:nvPr/>
        </p:nvGrpSpPr>
        <p:grpSpPr>
          <a:xfrm>
            <a:off x="6781680" y="4471920"/>
            <a:ext cx="2038320" cy="2051280"/>
            <a:chOff x="6781680" y="4471920"/>
            <a:chExt cx="2038320" cy="2051280"/>
          </a:xfrm>
        </p:grpSpPr>
        <p:sp>
          <p:nvSpPr>
            <p:cNvPr id="65" name="Rectangle : coins arrondis 11"/>
            <p:cNvSpPr/>
            <p:nvPr/>
          </p:nvSpPr>
          <p:spPr>
            <a:xfrm>
              <a:off x="6781680" y="4471920"/>
              <a:ext cx="2038320" cy="1513080"/>
            </a:xfrm>
            <a:prstGeom prst="roundRect">
              <a:avLst>
                <a:gd name="adj" fmla="val 633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ZoneTexte 12"/>
            <p:cNvSpPr/>
            <p:nvPr/>
          </p:nvSpPr>
          <p:spPr>
            <a:xfrm>
              <a:off x="6781680" y="4566960"/>
              <a:ext cx="203832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Source Sans Pro"/>
                  <a:ea typeface="Source Sans Pro"/>
                </a:rPr>
                <a:t>Formaliser des pistes et les leviers d’évolution du système de pro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ZoneTexte 19"/>
            <p:cNvSpPr/>
            <p:nvPr/>
          </p:nvSpPr>
          <p:spPr>
            <a:xfrm>
              <a:off x="7638840" y="6154920"/>
              <a:ext cx="3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4a88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ZoneTexte 20"/>
          <p:cNvSpPr/>
          <p:nvPr/>
        </p:nvSpPr>
        <p:spPr>
          <a:xfrm>
            <a:off x="395280" y="23511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a88"/>
                </a:solidFill>
                <a:latin typeface="Source Sans Pro"/>
                <a:ea typeface="Arial"/>
              </a:rPr>
              <a:t>Quels sont les obstacles et les limites actuelles à l’évolution des systèmes de productio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oneTexte 21"/>
          <p:cNvSpPr/>
          <p:nvPr/>
        </p:nvSpPr>
        <p:spPr>
          <a:xfrm>
            <a:off x="395280" y="3036960"/>
            <a:ext cx="83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4a88"/>
                </a:solidFill>
                <a:latin typeface="Source Sans Pro"/>
                <a:ea typeface="Arial"/>
              </a:rPr>
              <a:t>Quels sont les changements de pratique possibles selon les projets et les profils des apiculteurs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66560" y="189000"/>
            <a:ext cx="83534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Le modèle ESR </a:t>
            </a:r>
            <a:r>
              <a:rPr b="0" lang="fr-FR" sz="1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(Hill et Mc Rae, 1995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Evaluer les changements de pratiques vers une agriculture plus dura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Utilisé en production végétale dans le cadre des plans Ecophy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Trois </a:t>
            </a:r>
            <a:r>
              <a:rPr b="1" lang="fr-FR" sz="16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niveaux de transition </a:t>
            </a:r>
            <a:r>
              <a:rPr b="0" lang="fr-FR" sz="16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avec des logiques d’action différentes vis-à-vis des problèmes rencontré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" name="Groupe 2"/>
          <p:cNvGrpSpPr/>
          <p:nvPr/>
        </p:nvGrpSpPr>
        <p:grpSpPr>
          <a:xfrm>
            <a:off x="576360" y="2565360"/>
            <a:ext cx="8136000" cy="1321560"/>
            <a:chOff x="576360" y="2565360"/>
            <a:chExt cx="8136000" cy="1321560"/>
          </a:xfrm>
        </p:grpSpPr>
        <p:sp>
          <p:nvSpPr>
            <p:cNvPr id="72" name="Rectangle : coins arrondis 1"/>
            <p:cNvSpPr/>
            <p:nvPr/>
          </p:nvSpPr>
          <p:spPr>
            <a:xfrm>
              <a:off x="576360" y="2565360"/>
              <a:ext cx="7991640" cy="11527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"/>
            <p:cNvSpPr/>
            <p:nvPr/>
          </p:nvSpPr>
          <p:spPr>
            <a:xfrm>
              <a:off x="792000" y="2665080"/>
              <a:ext cx="792036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E = efficience </a:t>
              </a:r>
              <a:br>
                <a:rPr sz="1800"/>
              </a:br>
              <a:r>
                <a:rPr b="0" lang="fr-FR" sz="18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Augmenter l’efficience des intrants disponibles grâce au développement de techniques qui améliorent leur emploi et leur positionn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e 3"/>
          <p:cNvGrpSpPr/>
          <p:nvPr/>
        </p:nvGrpSpPr>
        <p:grpSpPr>
          <a:xfrm>
            <a:off x="576360" y="3933720"/>
            <a:ext cx="8136000" cy="1152720"/>
            <a:chOff x="576360" y="3933720"/>
            <a:chExt cx="8136000" cy="1152720"/>
          </a:xfrm>
        </p:grpSpPr>
        <p:sp>
          <p:nvSpPr>
            <p:cNvPr id="75" name="Rectangle : coins arrondis 10"/>
            <p:cNvSpPr/>
            <p:nvPr/>
          </p:nvSpPr>
          <p:spPr>
            <a:xfrm>
              <a:off x="576360" y="3933720"/>
              <a:ext cx="7991640" cy="115272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ZoneTexte 7"/>
            <p:cNvSpPr/>
            <p:nvPr/>
          </p:nvSpPr>
          <p:spPr>
            <a:xfrm>
              <a:off x="792000" y="4033440"/>
              <a:ext cx="792036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S = substitution </a:t>
              </a:r>
              <a:br>
                <a:rPr sz="1800"/>
              </a:br>
              <a:r>
                <a:rPr b="0" lang="fr-FR" sz="18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Mise en œuvre de méthodes et utilisation d’intrants alternatifs posant moins de problè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e 4"/>
          <p:cNvGrpSpPr/>
          <p:nvPr/>
        </p:nvGrpSpPr>
        <p:grpSpPr>
          <a:xfrm>
            <a:off x="611280" y="5300640"/>
            <a:ext cx="8064360" cy="1368360"/>
            <a:chOff x="611280" y="5300640"/>
            <a:chExt cx="8064360" cy="1368360"/>
          </a:xfrm>
        </p:grpSpPr>
        <p:sp>
          <p:nvSpPr>
            <p:cNvPr id="78" name="Rectangle : coins arrondis 11"/>
            <p:cNvSpPr/>
            <p:nvPr/>
          </p:nvSpPr>
          <p:spPr>
            <a:xfrm>
              <a:off x="611280" y="5300640"/>
              <a:ext cx="7991640" cy="1368360"/>
            </a:xfrm>
            <a:prstGeom prst="roundRect">
              <a:avLst>
                <a:gd name="adj" fmla="val 16667"/>
              </a:avLst>
            </a:prstGeom>
            <a:solidFill>
              <a:srgbClr val="dce6f2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ZoneTexte 9"/>
            <p:cNvSpPr/>
            <p:nvPr/>
          </p:nvSpPr>
          <p:spPr>
            <a:xfrm>
              <a:off x="755640" y="5373360"/>
              <a:ext cx="7920000" cy="122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R = re-conception </a:t>
              </a:r>
              <a:br>
                <a:rPr sz="1800"/>
              </a:br>
              <a:r>
                <a:rPr b="0" lang="fr-FR" sz="18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Gestion intégrée des problèmes visant à supprimer leur apparitio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4a88"/>
                  </a:solidFill>
                  <a:latin typeface="Source Sans Pro"/>
                  <a:ea typeface="Source Sans Pro"/>
                </a:rPr>
                <a:t>Implique la combinaison des moyens disponibles, des ruptures et une reconception du système de produ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0328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1.1 Les principaux intrants en apiculture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24000" y="981000"/>
          <a:ext cx="8569080" cy="4103640"/>
        </p:xfrm>
        <a:graphic>
          <a:graphicData uri="http://schemas.openxmlformats.org/drawingml/2006/table">
            <a:tbl>
              <a:tblPr/>
              <a:tblGrid>
                <a:gridCol w="1295280"/>
                <a:gridCol w="2808360"/>
                <a:gridCol w="2449440"/>
                <a:gridCol w="2016000"/>
              </a:tblGrid>
              <a:tr h="633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Nourr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Traitement antivarr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</a:tr>
              <a:tr h="977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cre cristal et si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andi et compléments protéin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aricides de synthè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ides organ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osés arom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laques gaufr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Objectifs d’uti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timulation des colonies en s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stitution du stock hiver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Lutte contre les carences nutritionn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Maintenir la pression parasitaire à un niveau 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nouveler les rayons des cadres de corps et de hau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9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Enjeux pour le systèm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ynamisme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rvie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servation de la productivité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duction de  la sensibilité au stress viral et chim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Gestion sanitaire de la ru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82" name="Image 2" descr="Une image contenant texte, boîte, carte de visite, bois de charpente&#10;&#10;Description générée automatiquement"/>
          <p:cNvPicPr/>
          <p:nvPr/>
        </p:nvPicPr>
        <p:blipFill>
          <a:blip r:embed="rId1"/>
          <a:srcRect l="0" t="18072" r="0" b="13169"/>
          <a:stretch/>
        </p:blipFill>
        <p:spPr>
          <a:xfrm>
            <a:off x="7308720" y="5516640"/>
            <a:ext cx="1284480" cy="884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jeanxaviers\Desktop\apivar-1-zoom.png"/>
          <p:cNvPicPr/>
          <p:nvPr/>
        </p:nvPicPr>
        <p:blipFill>
          <a:blip r:embed="rId2"/>
          <a:stretch/>
        </p:blipFill>
        <p:spPr>
          <a:xfrm>
            <a:off x="4572000" y="5300640"/>
            <a:ext cx="1201680" cy="1201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Users\jeanxaviers\Desktop\Apiguard-2-stuks.jpg"/>
          <p:cNvPicPr/>
          <p:nvPr/>
        </p:nvPicPr>
        <p:blipFill>
          <a:blip r:embed="rId3"/>
          <a:srcRect l="14284" t="0" r="10549" b="0"/>
          <a:stretch/>
        </p:blipFill>
        <p:spPr>
          <a:xfrm>
            <a:off x="5867280" y="5445000"/>
            <a:ext cx="1103400" cy="1100160"/>
          </a:xfrm>
          <a:prstGeom prst="rect">
            <a:avLst/>
          </a:prstGeom>
          <a:ln w="0">
            <a:noFill/>
          </a:ln>
        </p:spPr>
      </p:pic>
      <p:pic>
        <p:nvPicPr>
          <p:cNvPr id="85" name="Image 4" descr="Une image contenant texte&#10;&#10;Description générée automatiquement"/>
          <p:cNvPicPr/>
          <p:nvPr/>
        </p:nvPicPr>
        <p:blipFill>
          <a:blip r:embed="rId4"/>
          <a:stretch/>
        </p:blipFill>
        <p:spPr>
          <a:xfrm>
            <a:off x="3025800" y="5359320"/>
            <a:ext cx="1258920" cy="1257480"/>
          </a:xfrm>
          <a:prstGeom prst="rect">
            <a:avLst/>
          </a:prstGeom>
          <a:ln w="0">
            <a:noFill/>
          </a:ln>
        </p:spPr>
      </p:pic>
      <p:pic>
        <p:nvPicPr>
          <p:cNvPr id="86" name="Image 9" descr="Une image contenant texte&#10;&#10;Description générée automatiquement"/>
          <p:cNvPicPr/>
          <p:nvPr/>
        </p:nvPicPr>
        <p:blipFill>
          <a:blip r:embed="rId5"/>
          <a:stretch/>
        </p:blipFill>
        <p:spPr>
          <a:xfrm>
            <a:off x="1370160" y="5187960"/>
            <a:ext cx="147312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50328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1.1 Les principaux intrants en apiculture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539640" y="1054080"/>
          <a:ext cx="8064720" cy="3973680"/>
        </p:xfrm>
        <a:graphic>
          <a:graphicData uri="http://schemas.openxmlformats.org/drawingml/2006/table">
            <a:tbl>
              <a:tblPr/>
              <a:tblGrid>
                <a:gridCol w="2160720"/>
                <a:gridCol w="5904000"/>
              </a:tblGrid>
              <a:tr h="5032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Nourrisse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cre cristal et si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andi et compléments protéin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Objectifs d’uti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timulation des colonies en sais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stitution du stock hiver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Lutte contre les carences nutritionn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Enjeux  pour le systèm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ynamisme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rvie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Image 4" descr="Une image contenant texte&#10;&#10;Description générée automatiquement"/>
          <p:cNvPicPr/>
          <p:nvPr/>
        </p:nvPicPr>
        <p:blipFill>
          <a:blip r:embed="rId1"/>
          <a:stretch/>
        </p:blipFill>
        <p:spPr>
          <a:xfrm>
            <a:off x="770040" y="5327640"/>
            <a:ext cx="1211040" cy="1209600"/>
          </a:xfrm>
          <a:prstGeom prst="rect">
            <a:avLst/>
          </a:prstGeom>
          <a:ln w="0">
            <a:noFill/>
          </a:ln>
        </p:spPr>
      </p:pic>
      <p:pic>
        <p:nvPicPr>
          <p:cNvPr id="90" name="Image 9" descr="Une image contenant texte&#10;&#10;Description générée automatiquement"/>
          <p:cNvPicPr/>
          <p:nvPr/>
        </p:nvPicPr>
        <p:blipFill>
          <a:blip r:embed="rId2"/>
          <a:stretch/>
        </p:blipFill>
        <p:spPr>
          <a:xfrm>
            <a:off x="2771640" y="5241960"/>
            <a:ext cx="1381320" cy="1380960"/>
          </a:xfrm>
          <a:prstGeom prst="rect">
            <a:avLst/>
          </a:prstGeom>
          <a:ln w="0">
            <a:noFill/>
          </a:ln>
        </p:spPr>
      </p:pic>
      <p:pic>
        <p:nvPicPr>
          <p:cNvPr id="91" name="Image 2" descr="Une image contenant texte&#10;&#10;Description générée automatiquement"/>
          <p:cNvPicPr/>
          <p:nvPr/>
        </p:nvPicPr>
        <p:blipFill>
          <a:blip r:embed="rId3"/>
          <a:stretch/>
        </p:blipFill>
        <p:spPr>
          <a:xfrm>
            <a:off x="5133960" y="5292720"/>
            <a:ext cx="1236600" cy="1236600"/>
          </a:xfrm>
          <a:prstGeom prst="rect">
            <a:avLst/>
          </a:prstGeom>
          <a:ln w="0">
            <a:noFill/>
          </a:ln>
        </p:spPr>
      </p:pic>
      <p:pic>
        <p:nvPicPr>
          <p:cNvPr id="92" name="Image 4" descr=""/>
          <p:cNvPicPr/>
          <p:nvPr/>
        </p:nvPicPr>
        <p:blipFill>
          <a:blip r:embed="rId4"/>
          <a:stretch/>
        </p:blipFill>
        <p:spPr>
          <a:xfrm>
            <a:off x="7007400" y="5229360"/>
            <a:ext cx="138096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50328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1.1 Les principaux intrants en apiculture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39640" y="1054080"/>
          <a:ext cx="8064720" cy="3973680"/>
        </p:xfrm>
        <a:graphic>
          <a:graphicData uri="http://schemas.openxmlformats.org/drawingml/2006/table">
            <a:tbl>
              <a:tblPr/>
              <a:tblGrid>
                <a:gridCol w="2160720"/>
                <a:gridCol w="5904000"/>
              </a:tblGrid>
              <a:tr h="5032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Traitement anti-varro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aricides de synthè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ides organ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osés aroma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Objectifs d’uti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Maintenir la pression parasitaire à un niveau 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Enjeux  pour le systèm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servation de la productivité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rvie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duction de  la sensibilité au stress viral et chimiqu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5" name="Picture 2" descr="C:\Users\jeanxaviers\Desktop\apivar-1-zoom.png"/>
          <p:cNvPicPr/>
          <p:nvPr/>
        </p:nvPicPr>
        <p:blipFill>
          <a:blip r:embed="rId1"/>
          <a:stretch/>
        </p:blipFill>
        <p:spPr>
          <a:xfrm>
            <a:off x="900000" y="522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C:\Users\jeanxaviers\Desktop\1161746592.jpg"/>
          <p:cNvPicPr/>
          <p:nvPr/>
        </p:nvPicPr>
        <p:blipFill>
          <a:blip r:embed="rId2"/>
          <a:stretch/>
        </p:blipFill>
        <p:spPr>
          <a:xfrm>
            <a:off x="2916360" y="5300640"/>
            <a:ext cx="1341360" cy="1203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C:\Users\jeanxaviers\Desktop\maqs_10ner_2_1.jpg"/>
          <p:cNvPicPr/>
          <p:nvPr/>
        </p:nvPicPr>
        <p:blipFill>
          <a:blip r:embed="rId3"/>
          <a:stretch/>
        </p:blipFill>
        <p:spPr>
          <a:xfrm>
            <a:off x="6802560" y="5011560"/>
            <a:ext cx="1657080" cy="1657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6" descr="C:\Users\jeanxaviers\Desktop\Apiguard-2-stuks.jpg"/>
          <p:cNvPicPr/>
          <p:nvPr/>
        </p:nvPicPr>
        <p:blipFill>
          <a:blip r:embed="rId4"/>
          <a:stretch/>
        </p:blipFill>
        <p:spPr>
          <a:xfrm>
            <a:off x="4859280" y="530064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Image 12" descr=""/>
          <p:cNvPicPr/>
          <p:nvPr/>
        </p:nvPicPr>
        <p:blipFill>
          <a:blip r:embed="rId1"/>
          <a:stretch/>
        </p:blipFill>
        <p:spPr>
          <a:xfrm rot="19128600">
            <a:off x="863280" y="5124240"/>
            <a:ext cx="1857240" cy="16826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03280" y="40464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1.1 Les principaux intrants en apiculture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539640" y="1054080"/>
          <a:ext cx="8064720" cy="3973680"/>
        </p:xfrm>
        <a:graphic>
          <a:graphicData uri="http://schemas.openxmlformats.org/drawingml/2006/table">
            <a:tbl>
              <a:tblPr/>
              <a:tblGrid>
                <a:gridCol w="2160720"/>
                <a:gridCol w="5904000"/>
              </a:tblGrid>
              <a:tr h="5032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7933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laques gaufré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Objectifs d’uti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nouveler les rayons des cadres de corps et de haus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Enjeux  pour le système de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Gestion sanitaire de la ruch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2" name="Image 2" descr="Une image contenant texte, stationnaire&#10;&#10;Description générée automatiquement"/>
          <p:cNvPicPr/>
          <p:nvPr/>
        </p:nvPicPr>
        <p:blipFill>
          <a:blip r:embed="rId2"/>
          <a:stretch/>
        </p:blipFill>
        <p:spPr>
          <a:xfrm>
            <a:off x="6659640" y="5216400"/>
            <a:ext cx="1800000" cy="1452600"/>
          </a:xfrm>
          <a:prstGeom prst="rect">
            <a:avLst/>
          </a:prstGeom>
          <a:ln w="0">
            <a:noFill/>
          </a:ln>
        </p:spPr>
      </p:pic>
      <p:pic>
        <p:nvPicPr>
          <p:cNvPr id="103" name="Image 14" descr="Une image contenant texte, carte de visite, bois de charpente, matériau de construction&#10;&#10;Description générée automatiquement"/>
          <p:cNvPicPr/>
          <p:nvPr/>
        </p:nvPicPr>
        <p:blipFill>
          <a:blip r:embed="rId3"/>
          <a:stretch/>
        </p:blipFill>
        <p:spPr>
          <a:xfrm>
            <a:off x="3851280" y="517680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03280" y="26028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1.2 Ce qui pose question au regard de la durabilité et de l’autonomi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79280" y="836640"/>
          <a:ext cx="8785440" cy="5745240"/>
        </p:xfrm>
        <a:graphic>
          <a:graphicData uri="http://schemas.openxmlformats.org/drawingml/2006/table">
            <a:tbl>
              <a:tblPr/>
              <a:tblGrid>
                <a:gridCol w="1513080"/>
                <a:gridCol w="2519280"/>
                <a:gridCol w="2521080"/>
                <a:gridCol w="2232000"/>
              </a:tblGrid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Enjeux / Durabi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Produits de nourriss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Traitement antivarro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373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Ci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3735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duction des charg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ût économ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ût économ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ût économ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anté des colon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Equilibre et qualité nutritionn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isque de contamination chimique de la c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éveloppement de résistance du paras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tamination (pathogène et chimique) et adultération de la ci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9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utono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Filière longue et non lo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Filière longue et non lo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Filière longue et non loc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ifficulté d’approvisionnement en b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Besoin de temps pour constituer ses propres sto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éservation environn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uts environnementaux de production et de tran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uts environnementaux de production et de tran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uts environnementaux de tran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Qualité produ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isque d’adultération du mie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isque de contamination de la cire et du m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89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anté apicul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ort de charge lourde lors de la distribu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isque d’intoxication pour l’opérateur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347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duction et gestion des déch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b9b8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ntenant plas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upports à usage unique toxique après utilis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79280" y="836640"/>
          <a:ext cx="8785440" cy="5408640"/>
        </p:xfrm>
        <a:graphic>
          <a:graphicData uri="http://schemas.openxmlformats.org/drawingml/2006/table">
            <a:tbl>
              <a:tblPr/>
              <a:tblGrid>
                <a:gridCol w="2880000"/>
                <a:gridCol w="2665080"/>
                <a:gridCol w="3240360"/>
              </a:tblGrid>
              <a:tr h="431640">
                <a:tc gridSpan="3">
                  <a:txBody>
                    <a:bodyPr lIns="40680" rIns="406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 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Intrant :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oduits de nourriss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2440"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Effici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Substitu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40680" rIns="406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ffffff"/>
                          </a:solidFill>
                          <a:latin typeface="Source Sans Pro"/>
                          <a:ea typeface="Source Sans Pro"/>
                        </a:rPr>
                        <a:t>Reconce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624560"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Évaluation des besoi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e la colonie et ajustement des apports et du calendri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irop de qualité : inverti et sans amid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irop issu de betterave française ou européen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irop issu de l’agriculture biolog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lément protéin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Achat groupé à tarifs préférenti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éutilisation ou recyclage des conten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Balances connectées pour suivre l’état des réserves à distance et en contin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Nourrissement au miel, au pollen et au candymiel de l’exploi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nsfert de cadres de réserve entre coloni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Prélèvement, stockage et  resdistribution de cadres de réserve entre le printemps et l’autom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0680" rIns="406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Transhu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Laisser les miellées tardives aux abeil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Qualité, diversification et multiplic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des emplac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Moins stimuler les colonies et délaisser les miellées précoc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Moins stimuler les essaims artificiels et se donner plus de temps pour les emmener en production ou les ven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ensation des per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hivernales avec plus d’élev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ompensation des baisses de rendement par une meilleur valorisation économique du mi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Renforcement des ressources mellifères du territoire : plantation, partenariat, lobb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Choix de race rustiq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• 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Source Sans Pro"/>
                          <a:ea typeface="Source Sans Pro"/>
                        </a:rPr>
                        <a:t>Sélection selon les critères d’économie et d’autonom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0680" marR="40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189000"/>
            <a:ext cx="835344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4a88"/>
                </a:solidFill>
                <a:latin typeface="Source Sans Pro"/>
                <a:ea typeface="Source Sans Pro"/>
              </a:rPr>
              <a:t>2.1 Les pratiques de nourrisse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12T08:29:14Z</dcterms:created>
  <dc:creator>Jean-Xavier Saint-Guily</dc:creator>
  <dc:description/>
  <dc:language>en-US</dc:language>
  <cp:lastModifiedBy>Jean-Xavier Saint-Guily</cp:lastModifiedBy>
  <dcterms:modified xsi:type="dcterms:W3CDTF">2022-02-14T15:14:57Z</dcterms:modified>
  <cp:revision>205</cp:revision>
  <dc:subject/>
  <dc:title>Diapositive 1</dc:title>
</cp:coreProperties>
</file>